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D5D2-7930-4C07-9349-6D5FD008D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01E-15CB-4BDA-9A76-A5433342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611-1A12-4442-BE57-EC46DC7B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D95-0C89-4935-A644-ED1B9432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114-5B56-4173-BA91-50A3CD7E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695-2EAB-457E-893A-A892765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6E3-38E5-4883-BC81-C8A4B294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E79-D48F-4127-8B06-1189ABF5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B47-E567-4488-8C28-0BD5C513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660-7331-464D-B23B-3D3D635E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8A7-0C59-4590-822D-E4F40AE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DFF-48F1-4E3C-9C50-44F8AAD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152-562F-44E1-A654-2C1F7FCE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B5E0-620E-4ECD-BA18-71007D58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nitrogenous bases identified by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X-ray diffraction images of DNA that suggested its double helix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2nm, one turn 3.4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formation from Chargaff and Franklin’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a model of DNA with a double helix of 2 anti-parallel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2-04-17T17:03:05Z</dcterms:modified>
  <cp:revision>80</cp:revision>
  <dc:subject/>
  <dc:title>Molecular Genetics</dc:title>
</cp:coreProperties>
</file>